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20D-A814-4B03-BEB8-71832F1D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925-B830-4323-B396-4280DECD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DED-9E0B-4C4C-9C6E-FA95B501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684-7465-4A87-9F83-046C99A0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663C0-72E7-4A23-AF94-D5E46DAB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C4EE6-C732-433D-B0D0-4A59DC79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07087-E93C-466E-8582-3C203C4D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FC577-EF34-4181-A213-5F2D7D67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4E959-0C60-4078-8AD4-2898AD10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DB507-5605-4914-B7FA-5E398C33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43A1D-1FD7-4606-8120-B9AE3311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C20-25DF-4C8D-A4EE-947E42A0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F5DF3-78BC-4E86-B5BE-3D53DB2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E4D49-173F-47AD-ACD8-A69C141D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E30CD-B81A-4259-B92C-4D8E9A6C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9028D-0AB2-414E-B54E-456ABA21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264C6-AD34-4180-A16E-165E79AB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7D0-7B2A-4FC3-9817-E7B40318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59E-76D2-4025-B474-02139898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E2D-8EA6-4C7D-89DD-B9E53EBC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321-3A93-42EE-ADD0-BB93F09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03B-FEBF-4CC2-BED8-7964354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005-B218-453E-B13D-BFF6EAD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F72-F4D9-4858-AB60-D72D217A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BC20-B317-495E-9B64-4AC37980B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E9EF-FF3B-40FA-A648-880233D31A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etacean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t Plan Present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stin Carlo Pun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izelle Joyce Mol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Summ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taceans, otherwise commonly called as whales, are a group of marine mammal’s w/c include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hales, dolphins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orpoises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They are the mammals best suited to live in a marine or aquatic habitat. They have spindle-shaped bodies (streamlined), forelimbs modified into flippers, w/ horizontal flukes or tails. These mammals are nearly hairless, instead relying on a thick layer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lubbe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for insulation. Some species of cetaceans are noted for thei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igh intelligenc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Despite their high intelligence, they are also in danger of dying out in our oceans due to destructive human activiti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FQ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sential Question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can technology be used effectively to support and assess       students learning with regards to cetaceans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Question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e whales worth saving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can we learners do to help save these endangered species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ent Question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roles of whales in our ocean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makes cetaceans an endangered species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sion for Un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creating this unit, we want the students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lue the importance of wh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thought-provoking questions as to how we can help save these endangered anima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journals, documents and articles regarding whales using “English” as the main language tool for conveying the message in saving cetace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ject Approach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he students work on this project, th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nect the cause of the current situation of cetaceans to human  activ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quire advice/information from experts/professionals on the fiel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a short video &amp; written documentation, related to the topi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ent project output to audience for education purpo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Century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will develop higher-order &amp;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ntury skills in this unit as the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 that the cetaceans, are important in our oceans, not just for scientific purposes, but also for social purpo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 the sense of responsibility in maintaining our plan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lect on their written document and short video presentation, reading, writing, research, and thinking strategies, and modify and adapt them as necessa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cate with the public using their written document and video presentation about the information gathered regarding cetace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auging Student Needs Assess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CFQs to lea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a cetacean 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we can do to help the cetacea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ss 21st Century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bility to see the consequences of having these kind of animals extin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ability to use their knowledge &amp; skills, to think critically, applying knowledge to certain situations, analyze information, communication &amp; collaboration, solving problems, &amp; making decis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whale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2:05:53Z</dcterms:created>
  <dc:creator>ictlab</dc:creator>
  <dc:description/>
  <dc:language>en-US</dc:language>
  <cp:lastModifiedBy>nave</cp:lastModifiedBy>
  <dcterms:modified xsi:type="dcterms:W3CDTF">2010-09-03T21:49:05Z</dcterms:modified>
  <cp:revision>6</cp:revision>
  <dc:subject/>
  <dc:title>Cetaceans</dc:title>
</cp:coreProperties>
</file>